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BB6A-6C5C-4447-AC0C-C1A0A6F6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6714-8EE4-400F-9A47-4C00BAED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AEB-090F-480E-8770-CFE7DAB8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16A9-DA81-4E3B-A298-485AC9E41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6027-9751-4CE7-B0BB-4CFD6409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D7AB-1CA9-4D4A-9535-CC1D676D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4CB4-1120-47B4-910E-D9C18F350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5F808-3C74-4897-BEC4-815DDB9B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47CF-2F33-4146-80A3-EEA123A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8DBD-321C-4123-987C-7A1DF6D3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97EF-BBB7-4EF2-95D0-440F9747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81DC-5E10-4C6C-9B3F-A0719843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75FB-9E30-4B29-9A83-C4C63E88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583A-9E77-4C0C-BB84-8F6EF13B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DA73-6D18-4E99-8CFA-4392130E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8B2A-9352-42F6-87BA-32032110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1476-D59A-43F9-BDA7-9D1DC1E41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AD5-EAF5-4FD1-94B5-6325EF04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EECA-4B3F-4CBD-B767-7EE2B84D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3B0-9195-432A-A950-8B58E482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476-AE57-482C-8BBB-47FD0991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5F3-217B-43FC-ACC8-5C15D37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45C-8111-4C9A-873D-4642416A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7C4C-B8BA-409C-9C34-D6912CF3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4a1102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4a110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66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2039-CA58-4BA3-AEB8-E343A2EA8D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4a1102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1C4C-120C-4866-884C-89A6F51B5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Iraq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048120" y="365760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RAQ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81532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igri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uphra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lluvial Plai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3985920" cy="273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09880" y="3276720"/>
            <a:ext cx="42879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mmercial Farm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eat, Cotton, Dat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EMBAR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648320" y="457200"/>
            <a:ext cx="38098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Baghdad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ncient Muslim empi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uslim Arab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urd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48320" y="3124080"/>
            <a:ext cx="41860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umerians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4000 Years ag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038480" y="838080"/>
            <a:ext cx="4496040" cy="2181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80880" y="2895480"/>
            <a:ext cx="5067360" cy="3086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410080" y="3200400"/>
            <a:ext cx="331812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58 dictatorship - Hussei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ran/Iraq W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990 – invade Kuwai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Operation Iraqi Freedom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505320" y="4095720"/>
            <a:ext cx="2422440" cy="27622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5880" y="304920"/>
            <a:ext cx="269712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4:07:43Z</dcterms:created>
  <dc:creator>Cumberland County School</dc:creator>
  <dc:description/>
  <dc:language>en-US</dc:language>
  <cp:lastModifiedBy>Cumberland County School</cp:lastModifiedBy>
  <dcterms:modified xsi:type="dcterms:W3CDTF">2008-01-15T15:04:43Z</dcterms:modified>
  <cp:revision>3</cp:revision>
  <dc:subject/>
  <dc:title>Iraq</dc:title>
</cp:coreProperties>
</file>